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D72-1D2A-48E2-BF34-37302DD5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653-04AD-4C10-A2AD-A6934E2F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152-71D4-4F2C-9C24-3BF85C07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C69-8754-4ADF-A891-2B7086E4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AD4B3-5234-43D8-BCC5-29016195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F398C-E21D-4150-AF2C-23BD7D94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E77AC-4980-4A3B-B0EA-27F07CBF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41C51-C644-40E8-9FAD-A49AA057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DB544-E56B-4570-B566-A1A1CB6B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B5A40-9E50-4DDD-B8C3-1E92BC04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08ACE-4DBF-4D8B-A5A0-2A584310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032-81F4-4C56-AB81-A2125C10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06530-FA15-44AF-BD6E-1A287BD8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9EEE8-F5E2-4F99-A717-CEF9628F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6FD85-D7FD-430F-B91E-7B9BA1A4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0C5FE-D5BC-46CD-A45F-57F01A82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DF14B-C1FE-40D6-9D7A-642F78C7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A78-0A27-4DC6-BBB3-AAE0C347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943-3A4A-460C-ACA4-28ACBFED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EEC-B846-438A-8024-011CD511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15E-B053-41D7-8516-BDFAA4AC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549-A9ED-48B5-B01A-81C56B40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6C0-4640-495B-B6A0-A8153616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588-94C7-46AA-971F-CDF895B5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7D66-584E-4234-AA4C-F17976CB33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D58B-5CCA-41D2-92A3-93875F92AFB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Reflective Pract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efinitions, Models &amp; Meth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ertificate in Education Year 2 2008-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rriers to Ref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actical Barr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Kolb (1984) sees that to reflect effectively on your experience, you should actively set aside part of your working day to reflect &amp; analy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Kolb, D. (1984)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Experiential Learning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w Jersey; Prentice H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rriers to Ref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7040" y="2198160"/>
            <a:ext cx="7929720" cy="34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sychological Barr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ear of judgement, fear of criticism, being closed to feedback, defensiveness, professional arrog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ridges to Ref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n-judgemental support, e.g. mentor, mana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eeling ‘safe’ enough – or we may use ‘expedient’ learning &amp; do what we expect will get us thr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role model, e.g. a mentor who reflects on their own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Knowledge of as many methods as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s many opportunities as possible for engaging in reflection, e.g. pairs, grou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ime &amp; Energ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xer, G. (2003) Developing the relationship between reflective practice &amp; social work values.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Journal of Practice Teachin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5, 1, pp 7-2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ethods of Reflec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arra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98160"/>
            <a:ext cx="8229600" cy="38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 Narrative is a story of an experience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or event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ritten in the first person, i.e. I felt… I thought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arner-centred in that it allows the learner’s voice to be hear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s links to be made between personal &amp; professional develo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n be shared to allow deeper reflection &amp; comparis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ethods of Reflec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flective Jour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 Reflective Journal focuses on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r reaction to the event or exper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fferent ways that you might look at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the experience links with other experi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you can understand the experience in the light of the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you have learned in the sit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you need to lea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you might achieve your identified learning go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ethods of Reflec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ritical Inc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 critical incident is an incident that is in some way significant to the individual recounting it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 should recor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the situation w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you did in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happened as a result of your 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reflection on the situation or event &amp; the process by which it unfold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Importance of Ref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flection enables us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 conscious of our potential for bias &amp; discrimin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ke the best use of the knowledge availabl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allenge &amp; develop the existing professional knowledge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void past mistak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ximise our own opportunities for lear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Importance of Ref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nless we make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conscious &amp; systematic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efforts to critique our own practic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will be unaware of how &amp; when we are being discrimina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will not make use of the knowledge base developed by our own prof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will continue to repeat the same mistak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ur skills will stagnate rather then develo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oud, D., Keogh, R. &amp; Walker, D. (1985)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Reflection: Turning Experience into Learning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ondon: Kogan Page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ewey, J. (1938)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Logic: The Theory of Inquiry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 MN: Rinehart &amp; Winst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xer, G. (2003) Developing the relationship between reflective practice &amp; social work values.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Journal of Practice Teachin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5, 1, pp 7-2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Johns, C.  (2000).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Becoming a Reflective Practitione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 Oxford; Blackwe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Kolb, D. (1984)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Experiential Learning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w Jers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chon, D. (1983)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The Reflective Practitione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 London: Temple Smi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te, S. &amp; Sills, M. (eds) (2004) p 126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The Development of Critical Reflection in the Health Professions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ondon; Higher Education Author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PDJ Entry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 are your hopes &amp; aspirations at the start of Year 2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 you foresee any potential problems in fulfilling the course requirement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 support would help to overcome these problem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flection: A Definition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flection is an important human activity in which people recapture their experience, think about it, mull over &amp; evaluate it. It is this working with experience that is important in learning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oud, D., Keogh, R. &amp; Walker, D. (1985) p 43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Reflection: Turning Experience into Learning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ondon: Kogan Page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flection: A Definition (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We learn through critical reflection by putting ourselves into the experience &amp; exploring personal &amp; theoretical knowledge to understand it &amp; view it in different w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te, S. &amp; Sills, M. (eds) (2004) p 126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The Development of Critical Reflection in the Health Professions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ondon; Higher Education Authority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flection: Informal &amp; inform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formal Ref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volves self- questio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velops our awareness of our own assum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Formal Ref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raws on research &amp;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vides guidance &amp; frameworks for pract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odels of Reflec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ewey’s (1938) 5 Stage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2416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. We identify a problem that is perplexing &amp; ‘felt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. We observe &amp; refine the identified problem to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reate a fuller understa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. We develop a hypothesis or an understanding about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problem, its origins &amp; possible sol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4. We subject the hypothesis to scrutiny &amp; reaso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. We test the hypothesis or understanding in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ewey, J. (1938)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Logic: The Theory of Inquiry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 Troy, MN: Rinehart &amp; Winst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odels of Reflec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chon’s  (1983) ‘Reflection in Action’</a:t>
            </a: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32416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flection in action concerns thinking about something whilst engaged in doing it, having a feeling about something &amp; practicing according to that feeling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model celebrates the intuitive &amp; artistic approaches that can be brought to uncertain situa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chon, D. (1983)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The Reflective Practitione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 London: Temple Smi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odels of Reflec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olb’s (1984) Learning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oncrete Experienc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 The ev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flective observat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 Consider what has happened from a variety of perspectives e.g. own feelings, the group’s, an individual student’s vie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bstract conceptualisation: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-package &amp; process your reflections into a theoretical understanding (use theory to analyse the ev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ctive Experimentation: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rmed with this new understanding, you do it again, differently this tim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Kolb, D. (1984)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Experiential Learning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w Jersey; Prentice H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odels of Reflec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oud’s (1985) Experiential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6188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turn to an event, incident or experience &amp; record i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sider it in detail at an emotional and cognitiv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-evaluate the event in the light of experience, knowledge &amp; experimentation. Seek to understand the meaning of the exper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lan for what you might chan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oud, D., Keogh, R. &amp; Walker, D. (1985) 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Reflection: Turning Experience into Learnin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 London: Kogan Page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mmitmen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ccept responsibility &amp; be open to chan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ntradictio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ote tension between actual &amp; desired prac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nflic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arness this energy to take appropriat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halleng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nfront your own typical actions, beliefs &amp;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ttitudes in a non-threatening w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tharsi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ork through negative feelin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reatio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ove beyond old self to novel alternati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nnectio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nnect new insights in the world of prac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ring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alise desirable prac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ngruenc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flection as a mirror for ca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nstructing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uilding personal knowledge in prac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Johns, C.  (2000).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Becoming a Reflective Practitione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 Oxford; Blackwe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odels of Reflec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John’s Ten C’s of Reflection (20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9:34:12Z</dcterms:created>
  <dc:creator>IT Resources</dc:creator>
  <dc:description/>
  <dc:language>en-US</dc:language>
  <cp:lastModifiedBy>Lorraine Simpson</cp:lastModifiedBy>
  <dcterms:modified xsi:type="dcterms:W3CDTF">2008-09-02T14:56:52Z</dcterms:modified>
  <cp:revision>19</cp:revision>
  <dc:subject/>
  <dc:title>Reflective Practice</dc:title>
</cp:coreProperties>
</file>